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26BC-F773-45C5-BE50-93E66E59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B53-8589-40C4-B6A3-037E331A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B18-4229-41B0-95CA-3D156F07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767-4E27-450C-99CD-69879F01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82528-0443-4CF6-B1F3-3178C4F4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8AE42-834C-43FF-9F58-03A05FFE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192C0-511E-45A2-8E30-7C5E8916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4467A-40BF-4406-B32F-1ECB4300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44E13-5441-4F51-93D5-C39FC095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2A0BF-9E44-4A2E-B66C-4FFDB801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81D00-6C43-48E9-906D-DAE1BA94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FA5-B72D-480B-960F-61A27495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7FF7D-E6E2-4F7A-95BA-F6C9DFA1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80492-AE6B-4AF6-8854-03F3B07D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8C53A-2555-4C3F-9EFF-18B5AE62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8103A-321F-4BED-B272-93598043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90E94-1DB2-4C13-AF30-0CE18808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85A-97DB-4E85-B582-E95C9CA4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FF54-D975-407C-9F35-38C259D4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0D87-D4DD-4D60-85A3-F4E2297E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4D7B-0724-42CC-8E81-CD08EB96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889-C5D4-41F1-BE23-A77E7783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8F4-1788-48E5-AC9D-D3149853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6A24-A526-4E20-B27A-1E3F88E5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9132-B355-4AC2-ADF9-56E677079299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9BDF-5BBB-4980-96B1-EFC3CE2D75A4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SzPct val="120000"/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switch.com/water/how-much-water-use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403280" y="692280"/>
            <a:ext cx="61628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궁서"/>
              </a:rPr>
              <a:t>SSJJJ Storage Facilit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궁서"/>
              <a:ea typeface="궁서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3573360"/>
            <a:ext cx="230508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한글아씨-테트리스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한글아씨-테트리스M"/>
                <a:ea typeface="한글아씨-테트리스M"/>
              </a:rPr>
              <a:t>SI JIN SEOL</a:t>
            </a:r>
            <a:r>
              <a:rPr b="0" lang="en-US" sz="2800" spc="-1" strike="noStrike">
                <a:solidFill>
                  <a:srgbClr val="000000"/>
                </a:solidFill>
                <a:latin typeface="한글아씨-테트리스M"/>
                <a:ea typeface="한글아씨-테트리스M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한글아씨-테트리스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한글아씨-테트리스M"/>
                <a:ea typeface="한글아씨-테트리스M"/>
              </a:rPr>
              <a:t>JULIET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한글아씨-테트리스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한글아씨-테트리스M"/>
                <a:ea typeface="한글아씨-테트리스M"/>
              </a:rPr>
              <a:t>WOO JUNG JANG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한글아씨-테트리스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한글아씨-테트리스M"/>
                <a:ea typeface="한글아씨-테트리스M"/>
              </a:rPr>
              <a:t>SEONG LEE CHOI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한글아씨-테트리스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한글아씨-테트리스M"/>
                <a:ea typeface="한글아씨-테트리스M"/>
              </a:rPr>
              <a:t>JOO YOUNG YOO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373960" cy="19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Verdana"/>
                <a:ea typeface="좋은_키다리소녀"/>
              </a:rPr>
              <a:t>Justification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Verdana"/>
                <a:ea typeface="좋은_키다리소녀"/>
              </a:rPr>
              <a:t>of </a:t>
            </a:r>
            <a:r>
              <a:rPr b="0" lang="en-US" sz="4800" spc="-1" strike="noStrike">
                <a:solidFill>
                  <a:srgbClr val="a50021"/>
                </a:solidFill>
                <a:latin typeface="Verdana"/>
                <a:ea typeface="좋은_키다리소녀"/>
              </a:rPr>
              <a:t>Water</a:t>
            </a:r>
            <a:r>
              <a:rPr b="0" lang="en-US" sz="4400" spc="-1" strike="noStrike">
                <a:solidFill>
                  <a:srgbClr val="a50021"/>
                </a:solidFill>
                <a:latin typeface="Verdana"/>
                <a:ea typeface="좋은_키다리소녀"/>
              </a:rPr>
              <a:t> storage</a:t>
            </a:r>
            <a:br>
              <a:rPr sz="4400"/>
            </a:b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2997360"/>
            <a:ext cx="770580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OUR solution is correct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can we believe OUR answer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713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WHY OUR SOLUTION IS CORRECT?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628640"/>
            <a:ext cx="806436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CYLINDER</a:t>
            </a:r>
            <a:r>
              <a:rPr b="0" lang="zh-CN" sz="40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＞</a:t>
            </a:r>
            <a:r>
              <a:rPr b="0" lang="en-US" sz="40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RECTANGULAR PRISM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디지영이체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This is because CYLINDER have large size than rectangular prism even it have SHORT length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디지영이체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Also the reason we choose second cheapest CYLINDER is if the height is long then it will breakdown easily by storm, wind.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9647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굴림"/>
              </a:rPr>
              <a:t>HOW CAN WE BELIEVE OUR ANSWER?</a:t>
            </a:r>
            <a:endParaRPr b="0" lang="en-US" sz="36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디지영이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ACCURACY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- USE CORRECT FORMULA TO FIND THE ANSW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- WE CAN BELIEVE OUR ANSWER BECAUSE WE   MADE OUR ANSWER ACCURATELY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- RANGE THE ANSWER IN ONE DECIMAL PLAC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- IT MAKE EASY TO COMPARE THE ANSWER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ur water storage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ylinder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us = 4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ight = 13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s 658000 liters of water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18200" y="1916280"/>
          <a:ext cx="3189240" cy="47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18200" y="1916280"/>
                    <a:ext cx="318924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2133720"/>
            <a:ext cx="6985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궁서"/>
              </a:rPr>
              <a:t>Storage for Gr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궁서"/>
              <a:ea typeface="궁서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Amount of grain each person need to eat per day</a:t>
            </a:r>
            <a:endParaRPr b="0" lang="en-US" sz="40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person has different needs and different amounts of food they need to consume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age levels, gender and level of activity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formation given by Mr. Agustina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0g of grain per mea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ople usually have 3 meals a day; breakfast, lunch and dinner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0g x 3 =210g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10g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±10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people eat more than others and some people eat less than other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476280"/>
            <a:ext cx="83516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mount of grain needed for 50 familie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4±1 people in a family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people x 220 grams x 50 families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55000g (55kg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or 2 weeks=14 days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5kg x 14=770kg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0.77m³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24000" y="1557360"/>
          <a:ext cx="8461080" cy="4173480"/>
        </p:xfrm>
        <a:graphic>
          <a:graphicData uri="http://schemas.openxmlformats.org/drawingml/2006/table">
            <a:tbl>
              <a:tblPr/>
              <a:tblGrid>
                <a:gridCol w="1071360"/>
                <a:gridCol w="1071720"/>
                <a:gridCol w="1069920"/>
                <a:gridCol w="1179360"/>
                <a:gridCol w="855720"/>
                <a:gridCol w="1071720"/>
                <a:gridCol w="1069920"/>
                <a:gridCol w="10713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dius (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ea of the base (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π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ight (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rface area (2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π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(r+h)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ume (m³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st of metal ($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st of concrete ($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st ($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.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3.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9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63.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47.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9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05.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.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.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12.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.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.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76.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.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.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95.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.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.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3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371.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.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.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803.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.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.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4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490.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68360" y="549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rface area of the storag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373960" cy="19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Verdana"/>
                <a:ea typeface="좋은_키다리소녀"/>
              </a:rPr>
              <a:t>Justification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Verdana"/>
                <a:ea typeface="좋은_키다리소녀"/>
              </a:rPr>
              <a:t>of </a:t>
            </a:r>
            <a:r>
              <a:rPr b="0" lang="en-US" sz="4800" spc="-1" strike="noStrike">
                <a:solidFill>
                  <a:srgbClr val="a50021"/>
                </a:solidFill>
                <a:latin typeface="Verdana"/>
                <a:ea typeface="좋은_키다리소녀"/>
              </a:rPr>
              <a:t>Water</a:t>
            </a:r>
            <a:r>
              <a:rPr b="0" lang="en-US" sz="4400" spc="-1" strike="noStrike">
                <a:solidFill>
                  <a:srgbClr val="a50021"/>
                </a:solidFill>
                <a:latin typeface="Verdana"/>
                <a:ea typeface="좋은_키다리소녀"/>
              </a:rPr>
              <a:t> storage</a:t>
            </a:r>
            <a:br>
              <a:rPr sz="4400"/>
            </a:b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2997360"/>
            <a:ext cx="770580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OUR solution is correct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can we believe OUR answer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291960"/>
            <a:ext cx="878544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굴림"/>
              </a:rPr>
              <a:t>WHY OUR SOULUTION IS CORRECT?</a:t>
            </a:r>
            <a:br>
              <a:rPr sz="3600"/>
            </a:br>
            <a:r>
              <a:rPr b="0" lang="en-US" sz="4000" spc="-1" strike="noStrike">
                <a:solidFill>
                  <a:srgbClr val="0000ff"/>
                </a:solidFill>
                <a:latin typeface="굴림"/>
              </a:rPr>
              <a:t>How can we believe OUR answer?</a:t>
            </a:r>
            <a:br>
              <a:rPr sz="4000"/>
            </a:br>
            <a:endParaRPr b="0" lang="en-US" sz="40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디지영이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Same as water we decide to put grain in cylinder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디지영이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We got 70g for every people so we add ±10 to be enough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디지영이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No need to think about height because we will store grain less so the length won’t be so big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디지영이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디지영이체M"/>
                <a:ea typeface="디지영이체M"/>
              </a:rPr>
              <a:t>It’s accurate and easy to understand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Storage for water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932360" y="620640"/>
          <a:ext cx="3666960" cy="557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620640"/>
                    <a:ext cx="366696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95280" y="476280"/>
            <a:ext cx="8353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 solution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dius=0.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ight=0.97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es 770 kg of grains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Bibliography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How do we use water for in our daily lives?</a:t>
            </a:r>
            <a:endParaRPr b="0" lang="en-US" sz="40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ink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ing a bath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ushing toilet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hing clothe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hing dishes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k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3300"/>
                </a:solidFill>
                <a:uFillTx/>
                <a:latin typeface="굴림"/>
                <a:hlinkClick r:id="rId2"/>
              </a:rPr>
              <a:t>http://www.uswitch.com/water/how-much-water-use/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One person’s use of water in one day</a:t>
            </a:r>
            <a:endParaRPr b="0" lang="en-US" sz="40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-3 liters for drink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 times for flushing toilet (40 liters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0 liters for taking show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5 liters for washing clothe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88 liters of water a day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188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Gothic"/>
              </a:rPr>
              <a:t>liter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49360"/>
            <a:ext cx="8353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49360"/>
            <a:ext cx="8496000" cy="51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How many people in a family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Usually there are 2 adults in a family with 2 childr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= 4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±1 people in a family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Comic Sans MS"/>
              </a:rPr>
              <a:t>Amount of water needed 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188 liters x 5 people x 50 families= 47000 liter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Volume of the storage for water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=47000 liter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=4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3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2week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14day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47 x 14= 658 m3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The best shape to store water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7756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tangular pr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2060640"/>
          <a:ext cx="8147160" cy="182556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  <a:gridCol w="203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Width 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Length 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Height 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Cost ($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885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4615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955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145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</a:tbl>
          </a:graphicData>
        </a:graphic>
      </p:graphicFrame>
      <p:sp>
        <p:nvSpPr>
          <p:cNvPr id="96" name="TextBox 7"/>
          <p:cNvSpPr/>
          <p:nvPr/>
        </p:nvSpPr>
        <p:spPr>
          <a:xfrm>
            <a:off x="324000" y="40053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ylind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4797360"/>
          <a:ext cx="8218440" cy="182556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Radius 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Height 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Cost ($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352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4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590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137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430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Surface area of storage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Way of getting the surface area of a cylinder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r²+2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rh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r(r+h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ay of getting the cost of the storage</a:t>
            </a:r>
            <a:endParaRPr b="0" lang="en-US" sz="32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r(2h+r)=Total surface area without the roof of the storage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-multiply by 14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-find a volume of floor of the storage with 0.5m added out side walls, and the thickness of the floor is 0.2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-multiply by 640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-add the surface area with the volume =cost($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Surface area of the storage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844640"/>
          <a:ext cx="8424720" cy="4173480"/>
        </p:xfrm>
        <a:graphic>
          <a:graphicData uri="http://schemas.openxmlformats.org/drawingml/2006/table">
            <a:tbl>
              <a:tblPr/>
              <a:tblGrid>
                <a:gridCol w="1054080"/>
                <a:gridCol w="1200240"/>
                <a:gridCol w="906480"/>
                <a:gridCol w="1425600"/>
                <a:gridCol w="855360"/>
                <a:gridCol w="876600"/>
                <a:gridCol w="1220760"/>
                <a:gridCol w="8856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dius (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ea of the base (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π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ight (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rface area (2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π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(r+h)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ume (m³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st of metal ($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st of Concrete ($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 cost ($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4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3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3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4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9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6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3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4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9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9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4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0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4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6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395280" y="314172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335772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2:23:21Z</dcterms:created>
  <dc:creator>SEC</dc:creator>
  <dc:description/>
  <dc:language>en-US</dc:language>
  <cp:lastModifiedBy>io</cp:lastModifiedBy>
  <dcterms:modified xsi:type="dcterms:W3CDTF">2008-11-30T15:23:03Z</dcterms:modified>
  <cp:revision>12</cp:revision>
  <dc:subject/>
  <dc:title>Storage for water</dc:title>
</cp:coreProperties>
</file>